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8FB95-4C77-458C-BE68-D51FB9F92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A902D-CBB2-4563-A5A2-246244311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A4449-6F94-44EA-A2C9-D086A26C0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8B519-1E37-4163-B77D-DE6642161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57C83-95C5-438F-9652-39251C5EA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D8DAC-F056-4DF8-ABBA-DB92625E3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382DA-C0F9-49E5-8518-2E91317BD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FF1FD-32D6-48FB-8E6F-DE600BF8B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864CA-AD3D-425E-B41E-514E896F1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1D5FC-6862-4CEB-95B8-3E9E6E7BC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21A31-6850-4D57-A0A9-878C01817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30681-AF85-4BEE-ABC4-33AF718EB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06D1D-2B59-49F8-9A53-6EEB90710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3B347-762B-4FF0-BDBB-015ABB2BE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2D08B-F68F-4C1A-BEB1-B2D4ACF02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167B5-8771-47B2-81A0-0A698C0D2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AAF462-0680-447E-AC3D-009A6D60A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001E8-E409-43E5-A5D7-F259819B4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C1747-173F-4E0A-8AFD-CF1C34905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112C3-412D-46E5-892A-5CB6AD2A1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8E2DC-6241-4053-BFFD-009218CA8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B261A-DAA4-4D71-8C20-441692A84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4C3BE-1A0F-41FA-B33E-E39B84192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6B21D-8297-4E11-A76C-662E3B0D2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969B-CC31-4E32-B8DF-A0970679D5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F4F3-5432-42F1-A874-54C6EA2261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OL</a:t>
            </a:r>
            <a:endParaRPr b="0" lang="en-US" sz="4400" spc="-1" strike="noStrike">
              <a:solidFill>
                <a:srgbClr val="b7e7ff"/>
              </a:solidFill>
              <a:latin typeface="Arial"/>
            </a:endParaRPr>
          </a:p>
        </p:txBody>
      </p:sp>
      <p:sp>
        <p:nvSpPr>
          <p:cNvPr id="8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year the number of woman marithon runners increased from seventy eight to four hundred and thirty tw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OL Answer</a:t>
            </a:r>
            <a:endParaRPr b="0" lang="en-US" sz="4400" spc="-1" strike="noStrike">
              <a:solidFill>
                <a:srgbClr val="b7e7ff"/>
              </a:solidFill>
              <a:latin typeface="Arial"/>
            </a:endParaRPr>
          </a:p>
        </p:txBody>
      </p:sp>
      <p:sp>
        <p:nvSpPr>
          <p:cNvPr id="8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year the number of women marathon runners increased from 78 to 43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 If related numbers appear in the same sentence and some can be written out while others should appear as numerals, use all numerals.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reewrite</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minut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bout anyth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cabulary Practice</a:t>
            </a:r>
            <a:endParaRPr b="0" lang="en-US" sz="4400" spc="-1" strike="noStrike">
              <a:solidFill>
                <a:srgbClr val="b7e7ff"/>
              </a:solidFill>
              <a:latin typeface="Arial"/>
            </a:endParaRPr>
          </a:p>
        </p:txBody>
      </p:sp>
      <p:sp>
        <p:nvSpPr>
          <p:cNvPr id="88"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fontScale="90000"/>
          </a:bodyPr>
          <a:p>
            <a:pPr marL="308520" indent="-308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students are too __________.</a:t>
            </a:r>
            <a:endParaRPr b="0" lang="en-US" sz="3600" spc="-1" strike="noStrike">
              <a:solidFill>
                <a:srgbClr val="ffffff"/>
              </a:solidFill>
              <a:latin typeface="Arial"/>
            </a:endParaRPr>
          </a:p>
          <a:p>
            <a:pPr marL="308520" indent="-308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traced their ________ back to Western Europe.</a:t>
            </a:r>
            <a:endParaRPr b="0" lang="en-US" sz="3600" spc="-1" strike="noStrike">
              <a:solidFill>
                <a:srgbClr val="ffffff"/>
              </a:solidFill>
              <a:latin typeface="Arial"/>
            </a:endParaRPr>
          </a:p>
          <a:p>
            <a:pPr marL="308520" indent="-308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s try to _________ the rumors.</a:t>
            </a:r>
            <a:endParaRPr b="0" lang="en-US" sz="3600" spc="-1" strike="noStrike">
              <a:solidFill>
                <a:srgbClr val="ffffff"/>
              </a:solidFill>
              <a:latin typeface="Arial"/>
            </a:endParaRPr>
          </a:p>
          <a:p>
            <a:pPr marL="308520" indent="-308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video game was the whole family’s, but the older son acted like it was his _______.</a:t>
            </a:r>
            <a:endParaRPr b="0" lang="en-US" sz="3600" spc="-1" strike="noStrike">
              <a:solidFill>
                <a:srgbClr val="ffffff"/>
              </a:solidFill>
              <a:latin typeface="Arial"/>
            </a:endParaRPr>
          </a:p>
          <a:p>
            <a:pPr marL="308520" indent="-308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 have raised 600 dollars and our ______ is 1200 dollar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Great Gatsby</a:t>
            </a: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pack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Journal Response-1 Par.</a:t>
            </a: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2000"/>
          </a:bodyPr>
          <a:p>
            <a:pPr marL="315360" indent="-315360">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l three chapters have involved some kind of social event or gathering. What connections stand out to you among the gatherings, in terms of behavior, attitude, values and intentions of the character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7e7ff"/>
                </a:solidFill>
                <a:latin typeface="Arial"/>
              </a:rPr>
              <a:t>Homework</a:t>
            </a:r>
            <a:endParaRPr b="0" lang="en-US" sz="6000" spc="-1" strike="noStrike">
              <a:solidFill>
                <a:srgbClr val="b7e7ff"/>
              </a:solidFill>
              <a:latin typeface="Arial"/>
            </a:endParaRPr>
          </a:p>
        </p:txBody>
      </p:sp>
      <p:sp>
        <p:nvSpPr>
          <p:cNvPr id="9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udy for vocabulary quiz tomorrow.</a:t>
            </a:r>
            <a:endParaRPr b="0" lang="en-US" sz="4000" spc="-1" strike="noStrike">
              <a:solidFill>
                <a:srgbClr val="ffffff"/>
              </a:solidFill>
              <a:latin typeface="Arial"/>
            </a:endParaRPr>
          </a:p>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nish ch. 4 and prepare for test on 1, 2, 3 and 4 for Tuesday. </a:t>
            </a:r>
            <a:r>
              <a:rPr b="0" lang="en-US" sz="4000" spc="-1" strike="noStrike">
                <a:solidFill>
                  <a:srgbClr val="ffffff"/>
                </a:solidFill>
                <a:latin typeface="Wingdings"/>
                <a:ea typeface="Wingdings"/>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4:06:57Z</dcterms:created>
  <dc:creator>rebecca</dc:creator>
  <dc:description/>
  <dc:language>en-US</dc:language>
  <cp:lastModifiedBy>rebecca</cp:lastModifiedBy>
  <dcterms:modified xsi:type="dcterms:W3CDTF">2009-02-19T19:36:14Z</dcterms:modified>
  <cp:revision>2</cp:revision>
  <dc:subject/>
  <dc:title>DOL</dc:title>
</cp:coreProperties>
</file>